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5676-507A-4260-AA90-24B9E0974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117B2-88B9-4FAD-AB40-88ADF7FBC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465AC-90FD-4D5A-A950-560C0908F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EBDA1-B170-4D3E-8D06-C777AF453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F2902-D4BD-4631-82B9-C79AAC741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2E354-9C70-42A8-AB18-3C5373A59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073CC-D761-475F-8BDC-3B44E1CA6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B0BFF-6421-49D4-AA58-D1005FEB9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13F2C-C996-4032-A22F-37307C0A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E83A9-5EC1-4D41-8899-60FA4D7B8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7C53A-64F1-4E8F-A864-FC504C226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CBFB9-BA96-45B4-B306-1ADDB4CDF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4494B-E6DA-4FC6-BBC0-1CB6423D0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F2D9C-3910-4150-AC90-51F70F37C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47BA-FCFF-462A-A2D1-E2DEEFEC6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DA8EC-27FD-45DD-89FF-492773815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BE916-7026-4971-BB1B-C06C4A9AA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9A694-B0F5-42A0-94B2-B0C89A1E62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2ED04-F15F-463E-8D22-51B4BD176F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82E99B-8C68-43BD-8B32-F57B335203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6D663B-C991-4F02-9559-FA81320CF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43DC9-6F3C-446E-A717-7664CC4E3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19D5A-EDD9-4E4D-98ED-16DAE54E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D1CDD-36F5-4AED-A7E9-2C4403DA2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6EA14-DAE1-400B-B487-A94F0903C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F17DA-954C-4FD4-8D19-20C9D4C2E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FAB6E-0702-4852-AE88-CC7D686C0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34998-81B6-4F09-8345-9C7A83D15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18A2A1-75AC-467F-AA71-D6C1518CEF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83BFF7-6C2C-427F-94E0-E2C6272BB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12F3D-94E7-405F-A14A-66EE26761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8EC58-8702-455C-AE3F-A4FE15AD5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FC9C95-7175-4B2D-9AEC-3204C8888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3CA1E-07AB-4D6E-8D12-F7CA7F2D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6FA36-EBE0-463B-9714-E038F8579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266CC-C341-40CD-B0B0-7A8BA63A4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B720DC-7A03-4C2D-9A47-111050E5CC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A401-A84A-4CD1-823C-323617F72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5CBE2-3A6B-4DDC-B3B7-49DE897EC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F347C-1F46-43C5-89AF-A8F4036AD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63E37-4F34-44F4-99A9-BC16B97790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BF587D-09C8-4F65-AC40-438D332B92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173DE4-8A5B-4E35-AE69-821E2EA30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CF27DA-7C03-43F2-9C82-CBA448FBFE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7786-C454-407A-AA34-650E0E6B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8178E3-C50E-4559-A977-B980A6410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182DF-B8A5-462F-BE27-39E3A69742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986AA-5DB9-4787-845E-24EAA60FE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4B09E-E8B6-483E-AD83-3B09842E6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0C73B-5D20-4464-9876-DE5100955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DAE95-D9E8-4A52-8D31-A26560891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21CD1-E66D-4E7A-8D38-03501E4AB9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34590-0D42-4887-B550-BCB2A6DC8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5881F-E024-4AAE-88EE-D8B8D28F1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AD2C02-D4A2-486F-AF4F-AE3490F1A2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46CF-D4E0-4B26-9682-A62E4DC66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42A41D-4DDA-4C2E-8814-9F94FA56D0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68B08B-B108-45C3-BAE6-3F3E80F60B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605D7-8B7F-42E9-B5B7-B6671BFA58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67C85E-FEA1-45E3-9A6A-25F5EF414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7D7FF-0182-41DD-AD9F-4EBE3CC4F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C67BF-6CA4-47D8-8E80-19FC3AAB3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51CFE-48C8-47F1-8D3F-85C8017923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2F9AA4-4F96-40BE-B67F-900F9CD67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FE05C-E818-4071-B7A8-8CB531736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2F3DB-600C-4052-B3E8-D6E5BFE46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B91B-59E9-4341-9934-5FDDE68CC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16507-8E87-48C1-9939-66B2A18CF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97A1C1-B705-4C8E-B48D-13BFA4DF0D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401AF6-1EFA-452C-A9EC-8BCDCB52AC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3702E8-8B69-43E5-840A-82032FB44F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AC364-A95A-4D36-98F2-2C74F3041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E3D285-C077-430E-8F8A-336C6AE4DE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676C0-5DAA-48F6-82D6-B154212EA5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B73536-A4D4-4B88-8A2D-06E1AC719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62B85-A96A-4CE4-B329-D25F9477CB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E1CFCB-7AE7-46EF-BD75-297ED2DD1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AC758-7303-4578-B3AA-BD82A82D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8213A-9E82-42DD-8786-294D24A64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C7E08-1CF5-4C96-832D-20708C85D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C1667B-817B-4C07-9148-9C792DE4B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0FCBC-1603-4636-BC4B-1B1DE007C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8BA30E-71DF-4003-9D91-34E108A7EB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DE8E0A-0796-4524-856C-406101E9E6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60BD9B-5CC6-43FB-8B15-69EA40C85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189EB-C687-4AB9-A0C3-9B72B9E912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C2EC98-FE34-4ACF-B247-59B8CC4387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C41C4-0723-44C4-BDB7-E4922E591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3938-DBBD-4CA7-A8AE-030C6FDE8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B7126-65C7-4D27-994B-8CC1F285C9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F824A-112E-484C-8A85-23CFFBFD8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D53BC-99A9-4C65-ADE9-FB680B1146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DF197-202B-4F63-A8D1-609DE3657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0D00D-8814-4533-BF0E-6231201BF6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5A81AD-00F5-40B2-8EFB-98F75BDBDA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9C9BCB-5FBE-48D4-B1CE-F7E4F05301A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Triunghi drept 13"/>
          <p:cNvGrpSpPr/>
          <p:nvPr/>
        </p:nvGrpSpPr>
        <p:grpSpPr>
          <a:xfrm>
            <a:off x="-12600" y="5784840"/>
            <a:ext cx="3414600" cy="1092240"/>
            <a:chOff x="-12600" y="5784840"/>
            <a:chExt cx="3414600" cy="1092240"/>
          </a:xfrm>
        </p:grpSpPr>
        <p:pic>
          <p:nvPicPr>
            <p:cNvPr id="3" name="Triunghi drept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Conector drept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09AB-E77B-49C3-BB31-3CDC0230CC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upare 15"/>
          <p:cNvGrpSpPr/>
          <p:nvPr/>
        </p:nvGrpSpPr>
        <p:grpSpPr>
          <a:xfrm>
            <a:off x="-3240" y="4952880"/>
            <a:ext cx="9147240" cy="1911600"/>
            <a:chOff x="-3240" y="4952880"/>
            <a:chExt cx="9147240" cy="1911600"/>
          </a:xfrm>
        </p:grpSpPr>
        <p:sp>
          <p:nvSpPr>
            <p:cNvPr id="49" name="Formă liberă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ormă liberă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ormă liberă 19"/>
            <p:cNvGrpSpPr/>
            <p:nvPr/>
          </p:nvGrpSpPr>
          <p:grpSpPr>
            <a:xfrm>
              <a:off x="2520" y="4992120"/>
              <a:ext cx="9141480" cy="1872360"/>
              <a:chOff x="2520" y="4992120"/>
              <a:chExt cx="9141480" cy="1872360"/>
            </a:xfrm>
          </p:grpSpPr>
          <p:pic>
            <p:nvPicPr>
              <p:cNvPr id="52" name="Formă liberă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Conector drept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F9D5-626D-45A6-8B3C-8A76E65B498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Triunghi drept 13"/>
          <p:cNvGrpSpPr/>
          <p:nvPr/>
        </p:nvGrpSpPr>
        <p:grpSpPr>
          <a:xfrm>
            <a:off x="-12600" y="5784840"/>
            <a:ext cx="3414600" cy="1092240"/>
            <a:chOff x="-12600" y="5784840"/>
            <a:chExt cx="3414600" cy="1092240"/>
          </a:xfrm>
        </p:grpSpPr>
        <p:pic>
          <p:nvPicPr>
            <p:cNvPr id="99" name="Triunghi drept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Conector drept 14" descr=""/>
          <p:cNvPicPr/>
          <p:nvPr/>
        </p:nvPicPr>
        <p:blipFill>
          <a:blip r:embed="rId4"/>
          <a:stretch/>
        </p:blipFill>
        <p:spPr>
          <a:xfrm>
            <a:off x="-19080" y="5772240"/>
            <a:ext cx="3421080" cy="1109520"/>
          </a:xfrm>
          <a:prstGeom prst="rect">
            <a:avLst/>
          </a:prstGeom>
          <a:ln w="0">
            <a:noFill/>
          </a:ln>
        </p:spPr>
      </p:pic>
      <p:sp>
        <p:nvSpPr>
          <p:cNvPr id="102"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44BC-F037-40CF-A69C-F08C689F6F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Triunghi drept 13"/>
          <p:cNvGrpSpPr/>
          <p:nvPr/>
        </p:nvGrpSpPr>
        <p:grpSpPr>
          <a:xfrm>
            <a:off x="-12600" y="5784840"/>
            <a:ext cx="3414600" cy="1092240"/>
            <a:chOff x="-12600" y="5784840"/>
            <a:chExt cx="3414600" cy="1092240"/>
          </a:xfrm>
        </p:grpSpPr>
        <p:pic>
          <p:nvPicPr>
            <p:cNvPr id="148" name="Triunghi drept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Conector drept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67CD-A17B-4623-B0F1-0425DC5CE6C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5EB7C-DCD3-4F8E-975D-57552A437B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Triunghi drept 13"/>
          <p:cNvGrpSpPr/>
          <p:nvPr/>
        </p:nvGrpSpPr>
        <p:grpSpPr>
          <a:xfrm>
            <a:off x="-12600" y="5784840"/>
            <a:ext cx="3414600" cy="1092240"/>
            <a:chOff x="-12600" y="5784840"/>
            <a:chExt cx="3414600" cy="1092240"/>
          </a:xfrm>
        </p:grpSpPr>
        <p:pic>
          <p:nvPicPr>
            <p:cNvPr id="236" name="Triunghi drept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Conector drept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E1E4-4B6B-485D-BF0D-3E11545307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FB7C-217B-4425-A02B-96736555BC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ă liberă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ormă liberă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Triunghi drept 16"/>
          <p:cNvGrpSpPr/>
          <p:nvPr/>
        </p:nvGrpSpPr>
        <p:grpSpPr>
          <a:xfrm>
            <a:off x="-12600" y="5784840"/>
            <a:ext cx="3414600" cy="1092240"/>
            <a:chOff x="-12600" y="5784840"/>
            <a:chExt cx="3414600" cy="1092240"/>
          </a:xfrm>
        </p:grpSpPr>
        <p:pic>
          <p:nvPicPr>
            <p:cNvPr id="324" name="Triunghi drept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Conector drept 18" descr=""/>
          <p:cNvPicPr/>
          <p:nvPr/>
        </p:nvPicPr>
        <p:blipFill>
          <a:blip r:embed="rId4"/>
          <a:stretch/>
        </p:blipFill>
        <p:spPr>
          <a:xfrm>
            <a:off x="-19080" y="5772240"/>
            <a:ext cx="3421080" cy="1109520"/>
          </a:xfrm>
          <a:prstGeom prst="rect">
            <a:avLst/>
          </a:prstGeom>
          <a:ln w="0">
            <a:noFill/>
          </a:ln>
        </p:spPr>
      </p:pic>
      <p:sp>
        <p:nvSpPr>
          <p:cNvPr id="327"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50D1-BC8A-4190-AC32-27536B164AA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0" name="Picture 2" descr="http://harta.infoturism.ro/Europa/Franta/harta/harta_Franta.gif"/>
          <p:cNvPicPr/>
          <p:nvPr/>
        </p:nvPicPr>
        <p:blipFill>
          <a:blip r:embed="rId1"/>
          <a:stretch/>
        </p:blipFill>
        <p:spPr>
          <a:xfrm>
            <a:off x="0" y="0"/>
            <a:ext cx="9144000" cy="6858000"/>
          </a:xfrm>
          <a:prstGeom prst="rect">
            <a:avLst/>
          </a:prstGeom>
          <a:ln w="0">
            <a:noFill/>
          </a:ln>
        </p:spPr>
      </p:pic>
      <p:sp>
        <p:nvSpPr>
          <p:cNvPr id="371"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2" name="PlaceHolder 2"/>
          <p:cNvSpPr>
            <a:spLocks noGrp="1"/>
          </p:cNvSpPr>
          <p:nvPr>
            <p:ph type="subTitle"/>
          </p:nvPr>
        </p:nvSpPr>
        <p:spPr>
          <a:xfrm>
            <a:off x="1371600" y="2179080"/>
            <a:ext cx="46080" cy="181188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4646"/>
              </a:solidFill>
              <a:latin typeface="Lucida Sans Unicode"/>
            </a:endParaRPr>
          </a:p>
        </p:txBody>
      </p:sp>
      <p:pic>
        <p:nvPicPr>
          <p:cNvPr id="373" name="Dreptunghi 3" descr=""/>
          <p:cNvPicPr/>
          <p:nvPr/>
        </p:nvPicPr>
        <p:blipFill>
          <a:blip r:embed="rId2"/>
          <a:stretch/>
        </p:blipFill>
        <p:spPr>
          <a:xfrm>
            <a:off x="0" y="1600200"/>
            <a:ext cx="8772480" cy="367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diamond(in)" transition="in">
                                      <p:cBhvr additive="repl">
                                        <p:cTn id="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Substituent conținut 3" descr=""/>
          <p:cNvPicPr/>
          <p:nvPr/>
        </p:nvPicPr>
        <p:blipFill>
          <a:blip r:embed="rId1"/>
          <a:stretch/>
        </p:blipFill>
        <p:spPr>
          <a:xfrm>
            <a:off x="0" y="1268280"/>
            <a:ext cx="8997840" cy="4668840"/>
          </a:xfrm>
          <a:prstGeom prst="rect">
            <a:avLst/>
          </a:prstGeom>
          <a:ln w="0">
            <a:noFill/>
          </a:ln>
        </p:spPr>
      </p:pic>
      <p:pic>
        <p:nvPicPr>
          <p:cNvPr id="375" name="Titlu 1" descr=""/>
          <p:cNvPicPr/>
          <p:nvPr/>
        </p:nvPicPr>
        <p:blipFill>
          <a:blip r:embed="rId2"/>
          <a:stretch/>
        </p:blipFill>
        <p:spPr>
          <a:xfrm>
            <a:off x="304920" y="-176040"/>
            <a:ext cx="8381880" cy="1468440"/>
          </a:xfrm>
          <a:prstGeom prst="rect">
            <a:avLst/>
          </a:prstGeom>
          <a:ln w="0">
            <a:noFill/>
          </a:ln>
        </p:spPr>
      </p:pic>
      <p:pic>
        <p:nvPicPr>
          <p:cNvPr id="376" name="Imagine 5" descr="Franta.gif"/>
          <p:cNvPicPr/>
          <p:nvPr/>
        </p:nvPicPr>
        <p:blipFill>
          <a:blip r:embed="rId3"/>
          <a:stretch/>
        </p:blipFill>
        <p:spPr>
          <a:xfrm>
            <a:off x="3429000" y="1447920"/>
            <a:ext cx="5486400" cy="4724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375"/>
                                        </p:tgtEl>
                                        <p:attrNameLst>
                                          <p:attrName>style.visibility</p:attrName>
                                        </p:attrNameLst>
                                      </p:cBhvr>
                                      <p:to>
                                        <p:strVal val="visible"/>
                                      </p:to>
                                    </p:set>
                                    <p:anim calcmode="lin" valueType="num">
                                      <p:cBhvr additive="repl">
                                        <p:cTn id="14" dur="500" fill="hold"/>
                                        <p:tgtEl>
                                          <p:spTgt spid="375"/>
                                        </p:tgtEl>
                                        <p:attrNameLst>
                                          <p:attrName>ppt_w</p:attrName>
                                        </p:attrNameLst>
                                      </p:cBhvr>
                                      <p:tavLst>
                                        <p:tav tm="0">
                                          <p:val>
                                            <p:fltVal val="0"/>
                                          </p:val>
                                        </p:tav>
                                        <p:tav tm="100000">
                                          <p:val>
                                            <p:strVal val="#ppt_w"/>
                                          </p:val>
                                        </p:tav>
                                      </p:tavLst>
                                    </p:anim>
                                    <p:anim calcmode="lin" valueType="num">
                                      <p:cBhvr additive="repl">
                                        <p:cTn id="15"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376"/>
                                        </p:tgtEl>
                                        <p:attrNameLst>
                                          <p:attrName>style.visibility</p:attrName>
                                        </p:attrNameLst>
                                      </p:cBhvr>
                                      <p:to>
                                        <p:strVal val="visible"/>
                                      </p:to>
                                    </p:set>
                                    <p:anim calcmode="lin" valueType="num">
                                      <p:cBhvr additive="repl">
                                        <p:cTn id="20" dur="2000" fill="hold"/>
                                        <p:tgtEl>
                                          <p:spTgt spid="376"/>
                                        </p:tgtEl>
                                        <p:attrNameLst>
                                          <p:attrName>ppt_w</p:attrName>
                                        </p:attrNameLst>
                                      </p:cBhvr>
                                      <p:tavLst>
                                        <p:tav tm="0">
                                          <p:val>
                                            <p:fltVal val="0"/>
                                          </p:val>
                                        </p:tav>
                                        <p:tav tm="100000">
                                          <p:val>
                                            <p:strVal val="#ppt_w"/>
                                          </p:val>
                                        </p:tav>
                                      </p:tavLst>
                                    </p:anim>
                                    <p:anim calcmode="lin" valueType="num">
                                      <p:cBhvr additive="repl">
                                        <p:cTn id="21" dur="20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8">
                                  <p:stCondLst>
                                    <p:cond delay="0"/>
                                  </p:stCondLst>
                                  <p:childTnLst>
                                    <p:set>
                                      <p:cBhvr>
                                        <p:cTn id="25" dur="1" fill="hold">
                                          <p:stCondLst>
                                            <p:cond delay="0"/>
                                          </p:stCondLst>
                                        </p:cTn>
                                        <p:tgtEl>
                                          <p:spTgt spid="374"/>
                                        </p:tgtEl>
                                        <p:attrNameLst>
                                          <p:attrName>style.visibility</p:attrName>
                                        </p:attrNameLst>
                                      </p:cBhvr>
                                      <p:to>
                                        <p:strVal val="visible"/>
                                      </p:to>
                                    </p:set>
                                    <p:animEffect filter="slide(fromLeft)" transition="in">
                                      <p:cBhvr additive="repl">
                                        <p:cTn id="26"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 descr=""/>
          <p:cNvPicPr/>
          <p:nvPr/>
        </p:nvPicPr>
        <p:blipFill>
          <a:blip r:embed="rId1"/>
          <a:stretch/>
        </p:blipFill>
        <p:spPr>
          <a:xfrm>
            <a:off x="1309680" y="1238400"/>
            <a:ext cx="6524640" cy="438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79"/>
                                        </p:tgtEl>
                                        <p:attrNameLst>
                                          <p:attrName>style.visibility</p:attrName>
                                        </p:attrNameLst>
                                      </p:cBhvr>
                                      <p:to>
                                        <p:strVal val="visible"/>
                                      </p:to>
                                    </p:set>
                                    <p:animEffect filter="checkerboard(across)" transition="in">
                                      <p:cBhvr additive="repl">
                                        <p:cTn id="33"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Substituent conținut 1"/>
          <p:cNvGrpSpPr/>
          <p:nvPr/>
        </p:nvGrpSpPr>
        <p:grpSpPr>
          <a:xfrm>
            <a:off x="378000" y="1384200"/>
            <a:ext cx="8381880" cy="4735440"/>
            <a:chOff x="378000" y="1384200"/>
            <a:chExt cx="8381880" cy="4735440"/>
          </a:xfrm>
        </p:grpSpPr>
        <p:pic>
          <p:nvPicPr>
            <p:cNvPr id="381" name="Substituent conținut 1" descr=""/>
            <p:cNvPicPr/>
            <p:nvPr/>
          </p:nvPicPr>
          <p:blipFill>
            <a:blip r:embed="rId1"/>
            <a:stretch/>
          </p:blipFill>
          <p:spPr>
            <a:xfrm>
              <a:off x="378000" y="1384200"/>
              <a:ext cx="8381880" cy="4735440"/>
            </a:xfrm>
            <a:prstGeom prst="rect">
              <a:avLst/>
            </a:prstGeom>
            <a:ln w="0">
              <a:noFill/>
            </a:ln>
          </p:spPr>
        </p:pic>
        <p:sp>
          <p:nvSpPr>
            <p:cNvPr id="382" name=""/>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France métropolitaine, hors Corse, la taille moyenne d'une zone est 25,809 km ², ce qui représente environ un cinquième de la moyenne des États américai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2004, la moyenne de la population d'une région en France métropolitaine était de 2.329.000 habitants, dont la moitié de la population d'une région ou l'État anglais américain et les trois quarts de la population moyenne d'une terre allemand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grpSp>
      <p:pic>
        <p:nvPicPr>
          <p:cNvPr id="383" name="Titlu 2" descr=""/>
          <p:cNvPicPr/>
          <p:nvPr/>
        </p:nvPicPr>
        <p:blipFill>
          <a:blip r:embed="rId2"/>
          <a:stretch/>
        </p:blipFill>
        <p:spPr>
          <a:xfrm>
            <a:off x="450720" y="268200"/>
            <a:ext cx="8242560" cy="1158840"/>
          </a:xfrm>
          <a:prstGeom prst="rect">
            <a:avLst/>
          </a:prstGeom>
          <a:ln w="0">
            <a:noFill/>
          </a:ln>
        </p:spPr>
      </p:pic>
      <p:pic>
        <p:nvPicPr>
          <p:cNvPr id="384" name="Dreptunghi 4" descr=""/>
          <p:cNvPicPr/>
          <p:nvPr/>
        </p:nvPicPr>
        <p:blipFill>
          <a:blip r:embed="rId3"/>
          <a:stretch/>
        </p:blipFill>
        <p:spPr>
          <a:xfrm>
            <a:off x="2230560" y="115920"/>
            <a:ext cx="4670280" cy="11462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7">
                                  <p:stCondLst>
                                    <p:cond delay="0"/>
                                  </p:stCondLst>
                                  <p:childTnLst>
                                    <p:set>
                                      <p:cBhvr>
                                        <p:cTn id="39" dur="1" fill="hold">
                                          <p:stCondLst>
                                            <p:cond delay="0"/>
                                          </p:stCondLst>
                                        </p:cTn>
                                        <p:tgtEl>
                                          <p:spTgt spid="384"/>
                                        </p:tgtEl>
                                        <p:attrNameLst>
                                          <p:attrName>style.visibility</p:attrName>
                                        </p:attrNameLst>
                                      </p:cBhvr>
                                      <p:to>
                                        <p:strVal val="visible"/>
                                      </p:to>
                                    </p:set>
                                    <p:animEffect filter="fade" transition="in">
                                      <p:cBhvr additive="repl">
                                        <p:cTn id="40" dur="2000"/>
                                        <p:tgtEl>
                                          <p:spTgt spid="384"/>
                                        </p:tgtEl>
                                      </p:cBhvr>
                                    </p:animEffect>
                                    <p:anim calcmode="lin" valueType="num">
                                      <p:cBhvr additive="repl">
                                        <p:cTn id="41" dur="2000" fill="hold"/>
                                        <p:tgtEl>
                                          <p:spTgt spid="384"/>
                                        </p:tgtEl>
                                        <p:attrNameLst>
                                          <p:attrName>ppt_x</p:attrName>
                                        </p:attrNameLst>
                                      </p:cBhvr>
                                      <p:tavLst>
                                        <p:tav tm="0">
                                          <p:val>
                                            <p:strVal val="#ppt_x"/>
                                          </p:val>
                                        </p:tav>
                                        <p:tav tm="100000">
                                          <p:val>
                                            <p:strVal val="#ppt_x"/>
                                          </p:val>
                                        </p:tav>
                                      </p:tavLst>
                                    </p:anim>
                                    <p:anim calcmode="lin" valueType="num">
                                      <p:cBhvr additive="repl">
                                        <p:cTn id="42" dur="1800" fill="hold"/>
                                        <p:tgtEl>
                                          <p:spTgt spid="384"/>
                                        </p:tgtEl>
                                        <p:attrNameLst>
                                          <p:attrName>ppt_y</p:attrName>
                                        </p:attrNameLst>
                                      </p:cBhvr>
                                      <p:tavLst>
                                        <p:tav tm="0">
                                          <p:val>
                                            <p:strVal val="#ppt_y+1"/>
                                          </p:val>
                                        </p:tav>
                                        <p:tav tm="100000">
                                          <p:val>
                                            <p:strVal val="#ppt_y-.03"/>
                                          </p:val>
                                        </p:tav>
                                      </p:tavLst>
                                    </p:anim>
                                    <p:anim calcmode="lin" valueType="num">
                                      <p:cBhvr additive="repl">
                                        <p:cTn id="43" dur="200" fill="hold">
                                          <p:stCondLst>
                                            <p:cond delay="1800"/>
                                          </p:stCondLst>
                                        </p:cTn>
                                        <p:tgtEl>
                                          <p:spTgt spid="384"/>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380"/>
                                        </p:tgtEl>
                                        <p:attrNameLst>
                                          <p:attrName>style.visibility</p:attrName>
                                        </p:attrNameLst>
                                      </p:cBhvr>
                                      <p:to>
                                        <p:strVal val="visible"/>
                                      </p:to>
                                    </p:set>
                                    <p:anim calcmode="lin" valueType="num">
                                      <p:cBhvr additive="base">
                                        <p:cTn id="48" dur="5000" fill="hold"/>
                                        <p:tgtEl>
                                          <p:spTgt spid="380"/>
                                        </p:tgtEl>
                                        <p:attrNameLst>
                                          <p:attrName>ppt_x</p:attrName>
                                        </p:attrNameLst>
                                      </p:cBhvr>
                                      <p:tavLst>
                                        <p:tav tm="0">
                                          <p:val>
                                            <p:strVal val="#ppt_x"/>
                                          </p:val>
                                        </p:tav>
                                        <p:tav tm="100000">
                                          <p:val>
                                            <p:strVal val="#ppt_x"/>
                                          </p:val>
                                        </p:tav>
                                      </p:tavLst>
                                    </p:anim>
                                    <p:anim calcmode="lin" valueType="num">
                                      <p:cBhvr additive="base">
                                        <p:cTn id="49" dur="50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Substituent conținut 2" descr="carte france region"/>
          <p:cNvPicPr/>
          <p:nvPr/>
        </p:nvPicPr>
        <p:blipFill>
          <a:blip r:embed="rId1"/>
          <a:stretch/>
        </p:blipFill>
        <p:spPr>
          <a:xfrm>
            <a:off x="1295280" y="152280"/>
            <a:ext cx="6248520" cy="63248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Substituent conținut 1"/>
          <p:cNvGrpSpPr/>
          <p:nvPr/>
        </p:nvGrpSpPr>
        <p:grpSpPr>
          <a:xfrm>
            <a:off x="378000" y="1384200"/>
            <a:ext cx="8381880" cy="4735440"/>
            <a:chOff x="378000" y="1384200"/>
            <a:chExt cx="8381880" cy="4735440"/>
          </a:xfrm>
        </p:grpSpPr>
        <p:pic>
          <p:nvPicPr>
            <p:cNvPr id="387" name="Substituent conținut 1" descr=""/>
            <p:cNvPicPr/>
            <p:nvPr/>
          </p:nvPicPr>
          <p:blipFill>
            <a:blip r:embed="rId1"/>
            <a:stretch/>
          </p:blipFill>
          <p:spPr>
            <a:xfrm>
              <a:off x="378000" y="1384200"/>
              <a:ext cx="8381880" cy="4735440"/>
            </a:xfrm>
            <a:prstGeom prst="rect">
              <a:avLst/>
            </a:prstGeom>
            <a:ln w="0">
              <a:noFill/>
            </a:ln>
          </p:spPr>
        </p:pic>
        <p:sp>
          <p:nvSpPr>
            <p:cNvPr id="388" name=""/>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Un niveau au-dessous de la région (chacune d'entre-elles étant composée de plusieurs départements, sauf pour les régions d'outre-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Les départements ont été créés par une loi du 22 décembre 1789</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Chaque département français est à nouveau découpé en plusieurs arrondissements</a:t>
              </a:r>
              <a:endParaRPr b="0" lang="en-US" sz="2700" spc="-1" strike="noStrike">
                <a:solidFill>
                  <a:srgbClr val="000000"/>
                </a:solidFill>
                <a:latin typeface="Lucida Sans Unicode"/>
              </a:endParaRPr>
            </a:p>
          </p:txBody>
        </p:sp>
      </p:grpSp>
      <p:pic>
        <p:nvPicPr>
          <p:cNvPr id="389" name="Titlu 2" descr=""/>
          <p:cNvPicPr/>
          <p:nvPr/>
        </p:nvPicPr>
        <p:blipFill>
          <a:blip r:embed="rId2"/>
          <a:stretch/>
        </p:blipFill>
        <p:spPr>
          <a:xfrm>
            <a:off x="380880" y="0"/>
            <a:ext cx="8382240" cy="1420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389"/>
                                        </p:tgtEl>
                                        <p:attrNameLst>
                                          <p:attrName>style.visibility</p:attrName>
                                        </p:attrNameLst>
                                      </p:cBhvr>
                                      <p:to>
                                        <p:strVal val="visible"/>
                                      </p:to>
                                    </p:set>
                                    <p:animEffect filter="wedge" transition="in">
                                      <p:cBhvr additive="repl">
                                        <p:cTn id="56" dur="2000"/>
                                        <p:tgtEl>
                                          <p:spTgt spid="3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86"/>
                                        </p:tgtEl>
                                        <p:attrNameLst>
                                          <p:attrName>style.visibility</p:attrName>
                                        </p:attrNameLst>
                                      </p:cBhvr>
                                      <p:to>
                                        <p:strVal val="visible"/>
                                      </p:to>
                                    </p:set>
                                    <p:animEffect filter="fade" transition="in">
                                      <p:cBhvr additive="repl">
                                        <p:cTn id="61"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Substituent conținut 3" descr="departements.png"/>
          <p:cNvPicPr/>
          <p:nvPr/>
        </p:nvPicPr>
        <p:blipFill>
          <a:blip r:embed="rId1"/>
          <a:stretch/>
        </p:blipFill>
        <p:spPr>
          <a:xfrm>
            <a:off x="1523880" y="228600"/>
            <a:ext cx="5980320" cy="59436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3T06:42:18Z</dcterms:created>
  <dc:creator>cacicovschi</dc:creator>
  <dc:description/>
  <dc:language>en-US</dc:language>
  <cp:lastModifiedBy>cacicovschi</cp:lastModifiedBy>
  <dcterms:modified xsi:type="dcterms:W3CDTF">2013-03-13T08:14:49Z</dcterms:modified>
  <cp:revision>8</cp:revision>
  <dc:subject/>
  <dc:title>Diapozitivul 1</dc:title>
</cp:coreProperties>
</file>